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5.wmf" ContentType="image/x-wmf"/>
  <Override PartName="/ppt/media/image54.jpeg" ContentType="image/jpeg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78.jpeg" ContentType="image/jpe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65.wmf" ContentType="image/x-wmf"/>
  <Override PartName="/ppt/media/image82.png" ContentType="image/png"/>
  <Override PartName="/ppt/media/image106.wmf" ContentType="image/x-wmf"/>
  <Override PartName="/ppt/media/image99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64.wmf" ContentType="image/x-wmf"/>
  <Override PartName="/ppt/media/image63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630-06CB-45E5-BE8E-EC11F621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DB2-4D6B-4090-9F01-24B144E6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94D-4295-4F8A-8611-4FE30CC9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26C-2F6D-4414-B213-71396394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F8CD-4D36-4369-A350-33D0F0A0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B5A3-EA44-47BA-A895-3D278D51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2932-74D0-4251-8BF5-E1209FF8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CF8C-825F-4264-8D91-D9C514BA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E7E2-929E-4F33-BF95-F6303C71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350F-1486-4C0A-A40A-CE92A534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6850-09D5-4153-ACE1-11CD7239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3DE-4C7D-4161-8A46-BF2994A4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C4F7-8D68-4DF1-A828-42078E85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5AB7-DED7-443D-BB58-8AF979F9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FC29-B4F3-4A10-810D-2F8EB97B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2C8E-6F46-458E-AD4F-CFC09C75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7C4C-4803-47C9-8852-DB4FD211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E9E-4D96-4AAB-8311-01736DFE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F8A-AB1F-4D1B-9935-D5109397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C43-981F-4CD6-8F25-A24363E8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70E-3B6D-4D87-9416-A30A2322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B29-94D8-415A-96C3-FC01DA69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8A3-3A2A-4F8F-9635-93138B3A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D0F-9E18-439B-817A-8703259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3ED3-A035-485E-8125-AB67B9AA98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72D1-AFD0-48E0-9490-00FCF3481E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0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image" Target="../media/image54.jpe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7.wmf"/><Relationship Id="rId1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4.wmf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1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8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Различные виды уравнения прямой на плоскост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042920" y="3789360"/>
            <a:ext cx="2376720" cy="129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2374920" cy="12938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24000" y="981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588000" y="6093000"/>
            <a:ext cx="2233800" cy="518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755640" y="2492280"/>
            <a:ext cx="237636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3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Точка пересечения прямых,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заданных общими  уравнениям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+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0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+C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аходится как решение 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82436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4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оординаты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,y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середины  отрезка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, M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между  точкам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6596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5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Расстояние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|M</a:t>
            </a:r>
            <a:r>
              <a:rPr b="1" i="1" lang="en-US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|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между  точками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70120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6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Необходимое и достаточное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словие параллельности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двух прямых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Необходимое и достаточное условие параллельности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двух прямых, имеющих угловые коэффициенты 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7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Необходимое и достаточное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словие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перпендикулярности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двух прямых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Необходимое и достаточное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условие перпендикулярности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двух прямых,  имеющих  угловые коэффициенты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203640" y="3201840"/>
            <a:ext cx="27367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 р и м е р 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 общее уравнение пря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угловой коэффициент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ешим уравнение относительно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чим уравнение прямой с угловым коэффициен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заключаем: 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k = 2/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овой коэффициент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2987640" y="2060640"/>
          <a:ext cx="32083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060640"/>
                    <a:ext cx="32083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2"/>
          <p:cNvGraphicFramePr/>
          <p:nvPr/>
        </p:nvGraphicFramePr>
        <p:xfrm>
          <a:off x="5651640" y="3789360"/>
          <a:ext cx="230508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789360"/>
                    <a:ext cx="23050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4"/>
          <p:cNvGraphicFramePr/>
          <p:nvPr/>
        </p:nvGraphicFramePr>
        <p:xfrm>
          <a:off x="1547640" y="4240080"/>
          <a:ext cx="251784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240080"/>
                    <a:ext cx="2517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5"/>
          <p:cNvGraphicFramePr/>
          <p:nvPr/>
        </p:nvGraphicFramePr>
        <p:xfrm>
          <a:off x="4427640" y="4221000"/>
          <a:ext cx="79200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7640" y="4221000"/>
                    <a:ext cx="7920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 р и м е р  2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ть уравнение прямой, проходящей через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А(-1;3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 составляющей с осью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О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135</a:t>
            </a:r>
            <a:r>
              <a:rPr b="0" i="1" lang="ru-RU" sz="2000" spc="-1" strike="noStrike" baseline="30000">
                <a:solidFill>
                  <a:srgbClr val="6633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е ш е н и 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ак как в данном случа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k=tg135</a:t>
            </a:r>
            <a:r>
              <a:rPr b="0" i="1" lang="en-US" sz="2800" spc="-1" strike="noStrike" baseline="30000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=-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=-1, y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=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уравнение прямой буде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ть вид:  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y-3=-1(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получаем: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 = -х+2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 искомое уравнение пря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 = -х+2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 р и м е р  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Составить уравнение прямой, проходящей через точку пересечения прям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аллельно прямо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а)  Найдем точку пересечения двух прямых, для этого, решим систему урав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овательно, искомая точка пересечения 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Составим уравнение прямой, проходящей через данную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араллельно прямо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1692360" y="2060640"/>
          <a:ext cx="23032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060640"/>
                    <a:ext cx="23032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6"/>
          <p:cNvGraphicFramePr/>
          <p:nvPr/>
        </p:nvGraphicFramePr>
        <p:xfrm>
          <a:off x="4643280" y="1989000"/>
          <a:ext cx="288000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89000"/>
                    <a:ext cx="28800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8"/>
          <p:cNvGraphicFramePr/>
          <p:nvPr/>
        </p:nvGraphicFramePr>
        <p:xfrm>
          <a:off x="2843280" y="2708280"/>
          <a:ext cx="24480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2708280"/>
                    <a:ext cx="24480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9"/>
          <p:cNvGraphicFramePr/>
          <p:nvPr/>
        </p:nvGraphicFramePr>
        <p:xfrm>
          <a:off x="1332000" y="3645000"/>
          <a:ext cx="3168720" cy="13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645000"/>
                    <a:ext cx="316872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0"/>
          <p:cNvGraphicFramePr/>
          <p:nvPr/>
        </p:nvGraphicFramePr>
        <p:xfrm>
          <a:off x="4572000" y="4005360"/>
          <a:ext cx="64764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005360"/>
                    <a:ext cx="647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1"/>
          <p:cNvGraphicFramePr/>
          <p:nvPr/>
        </p:nvGraphicFramePr>
        <p:xfrm>
          <a:off x="5580000" y="3645000"/>
          <a:ext cx="1295640" cy="125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0000" y="3645000"/>
                    <a:ext cx="12956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2"/>
          <p:cNvGraphicFramePr/>
          <p:nvPr/>
        </p:nvGraphicFramePr>
        <p:xfrm>
          <a:off x="3924360" y="5589720"/>
          <a:ext cx="2448000" cy="57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5589720"/>
                    <a:ext cx="2448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дем угловой коэффициент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условия параллельности двух прямых находим угловой коэффициент искомой прямо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уясь форму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ходим уравнение прямой, проходящей через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угловым коэффициен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4"/>
          <p:cNvGraphicFramePr/>
          <p:nvPr/>
        </p:nvGraphicFramePr>
        <p:xfrm>
          <a:off x="5724360" y="1601640"/>
          <a:ext cx="2160720" cy="5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601640"/>
                    <a:ext cx="216072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0"/>
          <p:cNvGraphicFramePr/>
          <p:nvPr/>
        </p:nvGraphicFramePr>
        <p:xfrm>
          <a:off x="1425600" y="1955880"/>
          <a:ext cx="32004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5600" y="1955880"/>
                    <a:ext cx="3200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Picture 12" descr=""/>
          <p:cNvPicPr/>
          <p:nvPr/>
        </p:nvPicPr>
        <p:blipFill>
          <a:blip r:embed="rId5"/>
          <a:stretch/>
        </p:blipFill>
        <p:spPr>
          <a:xfrm>
            <a:off x="3924360" y="3357720"/>
            <a:ext cx="2160360" cy="50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Object 13"/>
          <p:cNvGraphicFramePr/>
          <p:nvPr/>
        </p:nvGraphicFramePr>
        <p:xfrm>
          <a:off x="1403280" y="4508640"/>
          <a:ext cx="2737080" cy="70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4508640"/>
                    <a:ext cx="2737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5"/>
          <p:cNvGraphicFramePr/>
          <p:nvPr/>
        </p:nvGraphicFramePr>
        <p:xfrm>
          <a:off x="4427640" y="4653000"/>
          <a:ext cx="504720" cy="40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4653000"/>
                    <a:ext cx="50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1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16"/>
          <p:cNvGraphicFramePr/>
          <p:nvPr/>
        </p:nvGraphicFramePr>
        <p:xfrm>
          <a:off x="5219640" y="4508640"/>
          <a:ext cx="2879640" cy="58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6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508640"/>
                    <a:ext cx="2879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18"/>
          <p:cNvGraphicFramePr/>
          <p:nvPr/>
        </p:nvGraphicFramePr>
        <p:xfrm>
          <a:off x="3203640" y="5300640"/>
          <a:ext cx="2879640" cy="582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8" name="Object 1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3640" y="5300640"/>
                    <a:ext cx="2879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5715000" y="1643040"/>
          <a:ext cx="2160720" cy="515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15000" y="1643040"/>
                    <a:ext cx="2160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Нормальный вектор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876920" y="1599840"/>
            <a:ext cx="412416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ектор  перпендикулярен направляющему вектору прямой       , то он называется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нормальным вектором  прямой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786200" y="3941280"/>
            <a:ext cx="4214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ая задана  об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в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 нормальным век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1071720" y="2357280"/>
            <a:ext cx="3571560" cy="2571840"/>
          </a:xfrm>
          <a:prstGeom prst="rect">
            <a:avLst/>
          </a:prstGeom>
          <a:ln w="0">
            <a:noFill/>
          </a:ln>
        </p:spPr>
      </p:pic>
      <p:cxnSp>
        <p:nvCxnSpPr>
          <p:cNvPr id="296" name="Прямая со стрелкой 7"/>
          <p:cNvCxnSpPr/>
          <p:nvPr/>
        </p:nvCxnSpPr>
        <p:spPr>
          <a:xfrm flipH="1" flipV="1">
            <a:off x="3214080" y="2214360"/>
            <a:ext cx="500760" cy="71496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arrow" w="med"/>
          </a:ln>
        </p:spPr>
      </p:cxnSp>
      <p:graphicFrame>
        <p:nvGraphicFramePr>
          <p:cNvPr id="297" name="Object 4"/>
          <p:cNvGraphicFramePr/>
          <p:nvPr/>
        </p:nvGraphicFramePr>
        <p:xfrm>
          <a:off x="3571920" y="1951200"/>
          <a:ext cx="322200" cy="54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920" y="1951200"/>
                    <a:ext cx="322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99" name="Прямая со стрелкой 14"/>
          <p:cNvCxnSpPr/>
          <p:nvPr/>
        </p:nvCxnSpPr>
        <p:spPr>
          <a:xfrm flipV="1">
            <a:off x="3357360" y="3561840"/>
            <a:ext cx="633960" cy="5104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arrow" w="med"/>
          </a:ln>
        </p:spPr>
      </p:cxnSp>
      <p:graphicFrame>
        <p:nvGraphicFramePr>
          <p:cNvPr id="300" name="Object 3"/>
          <p:cNvGraphicFramePr/>
          <p:nvPr/>
        </p:nvGraphicFramePr>
        <p:xfrm>
          <a:off x="4071960" y="3214800"/>
          <a:ext cx="32220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1960" y="3214800"/>
                    <a:ext cx="322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7250040" y="1428840"/>
          <a:ext cx="322200" cy="54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50040" y="1428840"/>
                    <a:ext cx="322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5"/>
          <p:cNvGraphicFramePr/>
          <p:nvPr/>
        </p:nvGraphicFramePr>
        <p:xfrm>
          <a:off x="8643960" y="2143080"/>
          <a:ext cx="322200" cy="549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643960" y="2143080"/>
                    <a:ext cx="322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6"/>
          <p:cNvGraphicFramePr/>
          <p:nvPr/>
        </p:nvGraphicFramePr>
        <p:xfrm>
          <a:off x="6429240" y="2571840"/>
          <a:ext cx="225720" cy="45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29240" y="2571840"/>
                    <a:ext cx="2257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4071960" y="2286000"/>
          <a:ext cx="225360" cy="45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71960" y="2286000"/>
                    <a:ext cx="2253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"/>
          <p:cNvGraphicFramePr/>
          <p:nvPr/>
        </p:nvGraphicFramePr>
        <p:xfrm>
          <a:off x="8061480" y="3214800"/>
          <a:ext cx="225360" cy="45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061480" y="3214800"/>
                    <a:ext cx="2253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9"/>
          <p:cNvGraphicFramePr/>
          <p:nvPr/>
        </p:nvGraphicFramePr>
        <p:xfrm>
          <a:off x="5648400" y="4653000"/>
          <a:ext cx="2138400" cy="419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3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48400" y="4653000"/>
                    <a:ext cx="2138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1"/>
          <p:cNvGraphicFramePr/>
          <p:nvPr/>
        </p:nvGraphicFramePr>
        <p:xfrm>
          <a:off x="6715080" y="5006880"/>
          <a:ext cx="1225440" cy="493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5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15080" y="5006880"/>
                    <a:ext cx="12254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330033"/>
                </a:solidFill>
                <a:uFillTx/>
                <a:latin typeface="Times New Roman"/>
              </a:rPr>
              <a:t>1.Уравнение прямой с угловым коэффициентом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00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x+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-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угловой коэффициент 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771640" y="3860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3347640" y="2276640"/>
            <a:ext cx="2808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4092480" y="3598920"/>
            <a:ext cx="150840" cy="2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12720" y="34290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428652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4716360" y="450864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α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- </a:t>
            </a: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угол наклона прямой к оси Ох, гд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3"/>
          <p:cNvGraphicFramePr/>
          <p:nvPr/>
        </p:nvGraphicFramePr>
        <p:xfrm>
          <a:off x="5940360" y="4149720"/>
          <a:ext cx="133848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4149720"/>
                    <a:ext cx="1338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35" descr=""/>
          <p:cNvPicPr/>
          <p:nvPr/>
        </p:nvPicPr>
        <p:blipFill>
          <a:blip r:embed="rId3"/>
          <a:stretch/>
        </p:blipFill>
        <p:spPr>
          <a:xfrm>
            <a:off x="4859280" y="5013360"/>
            <a:ext cx="990720" cy="27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1" descr=""/>
          <p:cNvPicPr/>
          <p:nvPr/>
        </p:nvPicPr>
        <p:blipFill>
          <a:blip r:embed="rId4"/>
          <a:stretch/>
        </p:blipFill>
        <p:spPr>
          <a:xfrm>
            <a:off x="6012000" y="5013360"/>
            <a:ext cx="863640" cy="34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2"/>
          <p:cNvSpPr/>
          <p:nvPr/>
        </p:nvSpPr>
        <p:spPr>
          <a:xfrm>
            <a:off x="4788000" y="537372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b - </a:t>
            </a: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ордината точки пересечения прямой с осью О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Нормальный вектор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2600" y="1599840"/>
            <a:ext cx="4714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    , которая про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точ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меет  нормальный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14240" y="4071960"/>
            <a:ext cx="79725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ны,  их скалярное произведение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 есть искомое урав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101520" y="0"/>
            <a:ext cx="470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2"/>
          <p:cNvGraphicFramePr/>
          <p:nvPr/>
        </p:nvGraphicFramePr>
        <p:xfrm>
          <a:off x="2000160" y="2000160"/>
          <a:ext cx="2253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2000160"/>
                    <a:ext cx="2253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3"/>
          <p:cNvGraphicFramePr/>
          <p:nvPr/>
        </p:nvGraphicFramePr>
        <p:xfrm>
          <a:off x="2643120" y="2428920"/>
          <a:ext cx="14716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2428920"/>
                    <a:ext cx="14716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4"/>
          <p:cNvGraphicFramePr/>
          <p:nvPr/>
        </p:nvGraphicFramePr>
        <p:xfrm>
          <a:off x="857160" y="3357720"/>
          <a:ext cx="14544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357720"/>
                    <a:ext cx="1454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6" name="Picture 5" descr="C:\Users\MANYA\Desktop\фото.JPG"/>
          <p:cNvPicPr/>
          <p:nvPr/>
        </p:nvPicPr>
        <p:blipFill>
          <a:blip r:embed="rId7"/>
          <a:stretch/>
        </p:blipFill>
        <p:spPr>
          <a:xfrm>
            <a:off x="5286240" y="1500120"/>
            <a:ext cx="3500640" cy="24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7"/>
          <p:cNvGraphicFramePr/>
          <p:nvPr/>
        </p:nvGraphicFramePr>
        <p:xfrm>
          <a:off x="3714840" y="4000680"/>
          <a:ext cx="3516120" cy="54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14840" y="4000680"/>
                    <a:ext cx="35161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8"/>
          <p:cNvGraphicFramePr/>
          <p:nvPr/>
        </p:nvGraphicFramePr>
        <p:xfrm>
          <a:off x="1928880" y="4857840"/>
          <a:ext cx="5313240" cy="65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0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28880" y="4857840"/>
                    <a:ext cx="5313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Расстояние от точки до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28684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орем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ссто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прямой, зада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м урав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ся формул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C:\Users\MANYA\Desktop\фото.JPG"/>
          <p:cNvPicPr/>
          <p:nvPr/>
        </p:nvPicPr>
        <p:blipFill>
          <a:blip r:embed="rId1"/>
          <a:stretch/>
        </p:blipFill>
        <p:spPr>
          <a:xfrm>
            <a:off x="4786200" y="1500120"/>
            <a:ext cx="4071960" cy="250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4"/>
          <p:cNvGraphicFramePr/>
          <p:nvPr/>
        </p:nvGraphicFramePr>
        <p:xfrm>
          <a:off x="2428920" y="2143080"/>
          <a:ext cx="14716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2143080"/>
                    <a:ext cx="14716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5"/>
          <p:cNvGraphicFramePr/>
          <p:nvPr/>
        </p:nvGraphicFramePr>
        <p:xfrm>
          <a:off x="1290600" y="3571920"/>
          <a:ext cx="213840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0600" y="3571920"/>
                    <a:ext cx="2138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6"/>
          <p:cNvGraphicFramePr/>
          <p:nvPr/>
        </p:nvGraphicFramePr>
        <p:xfrm>
          <a:off x="2928960" y="4714920"/>
          <a:ext cx="2556000" cy="94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28960" y="4714920"/>
                    <a:ext cx="25560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Расстояние от точки до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2960" y="1599840"/>
            <a:ext cx="8143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расстояние от точки                        до  пря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ной  общим уравн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1320" y="2714760"/>
            <a:ext cx="79722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 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101520" y="0"/>
            <a:ext cx="470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5000760" y="1571760"/>
          <a:ext cx="114444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1571760"/>
                    <a:ext cx="1144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7"/>
          <p:cNvGraphicFramePr/>
          <p:nvPr/>
        </p:nvGraphicFramePr>
        <p:xfrm>
          <a:off x="5429160" y="2071800"/>
          <a:ext cx="198936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071800"/>
                    <a:ext cx="19893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9"/>
          <p:cNvGraphicFramePr/>
          <p:nvPr/>
        </p:nvGraphicFramePr>
        <p:xfrm>
          <a:off x="3000240" y="2714760"/>
          <a:ext cx="2556000" cy="94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714760"/>
                    <a:ext cx="25560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1"/>
          <p:cNvGraphicFramePr/>
          <p:nvPr/>
        </p:nvGraphicFramePr>
        <p:xfrm>
          <a:off x="3071880" y="3786120"/>
          <a:ext cx="2816280" cy="9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1880" y="3786120"/>
                    <a:ext cx="28162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Прямоугольник 11"/>
          <p:cNvSpPr/>
          <p:nvPr/>
        </p:nvSpPr>
        <p:spPr>
          <a:xfrm>
            <a:off x="3287880" y="16430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ОКРУ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785880" y="20001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1.  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–  геометрическое место точек на плоскости,  равноудаленных от некоторой точки, называемой цен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6"/>
          <p:cNvSpPr/>
          <p:nvPr/>
        </p:nvSpPr>
        <p:spPr>
          <a:xfrm>
            <a:off x="142920" y="500040"/>
            <a:ext cx="3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7"/>
          <p:cNvSpPr/>
          <p:nvPr/>
        </p:nvSpPr>
        <p:spPr>
          <a:xfrm>
            <a:off x="712800" y="32446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оническо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2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4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6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17"/>
          <p:cNvGraphicFramePr/>
          <p:nvPr/>
        </p:nvGraphicFramePr>
        <p:xfrm>
          <a:off x="5143680" y="3214800"/>
          <a:ext cx="231444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3214800"/>
                    <a:ext cx="2314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Прямоугольник 10"/>
          <p:cNvSpPr/>
          <p:nvPr/>
        </p:nvSpPr>
        <p:spPr>
          <a:xfrm>
            <a:off x="714240" y="401148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Точка О(0;0) – центр окру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r - 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Ox, Oy - оси симмет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График изображен на рис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Блок-схема: узел 12"/>
          <p:cNvSpPr/>
          <p:nvPr/>
        </p:nvSpPr>
        <p:spPr>
          <a:xfrm>
            <a:off x="6500880" y="3857760"/>
            <a:ext cx="2143080" cy="2071440"/>
          </a:xfrm>
          <a:prstGeom prst="flowChartConnector">
            <a:avLst/>
          </a:prstGeom>
          <a:solidFill>
            <a:srgbClr val="ffffe1"/>
          </a:solidFill>
          <a:ln w="3492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17"/>
          <p:cNvCxnSpPr/>
          <p:nvPr/>
        </p:nvCxnSpPr>
        <p:spPr>
          <a:xfrm flipH="1" flipV="1">
            <a:off x="7571520" y="3357000"/>
            <a:ext cx="72360" cy="28580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365" name="Прямая со стрелкой 25"/>
          <p:cNvCxnSpPr/>
          <p:nvPr/>
        </p:nvCxnSpPr>
        <p:spPr>
          <a:xfrm>
            <a:off x="6214680" y="4857840"/>
            <a:ext cx="2848680" cy="21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graphicFrame>
        <p:nvGraphicFramePr>
          <p:cNvPr id="366" name="Object 11"/>
          <p:cNvGraphicFramePr/>
          <p:nvPr/>
        </p:nvGraphicFramePr>
        <p:xfrm>
          <a:off x="7786800" y="3357720"/>
          <a:ext cx="29844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86800" y="3357720"/>
                    <a:ext cx="2984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2"/>
          <p:cNvGraphicFramePr/>
          <p:nvPr/>
        </p:nvGraphicFramePr>
        <p:xfrm>
          <a:off x="8643960" y="4929120"/>
          <a:ext cx="272880" cy="3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43960" y="4929120"/>
                    <a:ext cx="2728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3"/>
          <p:cNvGraphicFramePr/>
          <p:nvPr/>
        </p:nvGraphicFramePr>
        <p:xfrm>
          <a:off x="7358040" y="4500720"/>
          <a:ext cx="271440" cy="38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8040" y="4500720"/>
                    <a:ext cx="27144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2" name="Прямая со стрелкой 32"/>
          <p:cNvCxnSpPr/>
          <p:nvPr/>
        </p:nvCxnSpPr>
        <p:spPr>
          <a:xfrm flipV="1">
            <a:off x="7643520" y="4214880"/>
            <a:ext cx="786600" cy="643320"/>
          </a:xfrm>
          <a:prstGeom prst="straightConnector1">
            <a:avLst/>
          </a:prstGeom>
          <a:ln w="22320">
            <a:solidFill>
              <a:srgbClr val="ad0000"/>
            </a:solidFill>
            <a:miter/>
            <a:tailEnd len="med" type="triangle" w="med"/>
          </a:ln>
        </p:spPr>
      </p:cxnSp>
      <p:sp>
        <p:nvSpPr>
          <p:cNvPr id="373" name="Прямоугольник 35"/>
          <p:cNvSpPr/>
          <p:nvPr/>
        </p:nvSpPr>
        <p:spPr>
          <a:xfrm>
            <a:off x="7121160" y="61308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TextBox 16"/>
          <p:cNvSpPr/>
          <p:nvPr/>
        </p:nvSpPr>
        <p:spPr>
          <a:xfrm>
            <a:off x="142920" y="500040"/>
            <a:ext cx="3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7"/>
          <p:cNvSpPr/>
          <p:nvPr/>
        </p:nvSpPr>
        <p:spPr>
          <a:xfrm>
            <a:off x="714600" y="285768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 свойст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2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4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6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17"/>
          <p:cNvGraphicFramePr/>
          <p:nvPr/>
        </p:nvGraphicFramePr>
        <p:xfrm>
          <a:off x="2503440" y="2071800"/>
          <a:ext cx="4060800" cy="60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3440" y="2071800"/>
                    <a:ext cx="40608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Блок-схема: узел 12"/>
          <p:cNvSpPr/>
          <p:nvPr/>
        </p:nvSpPr>
        <p:spPr>
          <a:xfrm>
            <a:off x="6500880" y="3857760"/>
            <a:ext cx="2143080" cy="2071440"/>
          </a:xfrm>
          <a:prstGeom prst="flowChartConnector">
            <a:avLst/>
          </a:prstGeom>
          <a:solidFill>
            <a:srgbClr val="ffffe1"/>
          </a:solidFill>
          <a:ln w="3492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Прямая со стрелкой 17"/>
          <p:cNvCxnSpPr/>
          <p:nvPr/>
        </p:nvCxnSpPr>
        <p:spPr>
          <a:xfrm flipH="1" flipV="1">
            <a:off x="7571520" y="2356920"/>
            <a:ext cx="72360" cy="38584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384" name="Прямая со стрелкой 25"/>
          <p:cNvCxnSpPr/>
          <p:nvPr/>
        </p:nvCxnSpPr>
        <p:spPr>
          <a:xfrm>
            <a:off x="6295680" y="4857840"/>
            <a:ext cx="2848680" cy="21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graphicFrame>
        <p:nvGraphicFramePr>
          <p:cNvPr id="385" name="Object 3"/>
          <p:cNvGraphicFramePr/>
          <p:nvPr/>
        </p:nvGraphicFramePr>
        <p:xfrm>
          <a:off x="7072200" y="2857680"/>
          <a:ext cx="37944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72200" y="2857680"/>
                    <a:ext cx="379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4"/>
          <p:cNvGraphicFramePr/>
          <p:nvPr/>
        </p:nvGraphicFramePr>
        <p:xfrm>
          <a:off x="8604360" y="4905360"/>
          <a:ext cx="35388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04360" y="4905360"/>
                    <a:ext cx="3538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5"/>
          <p:cNvGraphicFramePr/>
          <p:nvPr/>
        </p:nvGraphicFramePr>
        <p:xfrm>
          <a:off x="7358040" y="4714920"/>
          <a:ext cx="271440" cy="38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8040" y="4714920"/>
                    <a:ext cx="271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91" name="Прямая со стрелкой 32"/>
          <p:cNvCxnSpPr/>
          <p:nvPr/>
        </p:nvCxnSpPr>
        <p:spPr>
          <a:xfrm flipV="1">
            <a:off x="7642800" y="2999880"/>
            <a:ext cx="1143720" cy="1858320"/>
          </a:xfrm>
          <a:prstGeom prst="straightConnector1">
            <a:avLst/>
          </a:prstGeom>
          <a:ln w="22320">
            <a:solidFill>
              <a:srgbClr val="ad0000"/>
            </a:solidFill>
            <a:miter/>
            <a:tailEnd len="med" type="triangle" w="med"/>
          </a:ln>
        </p:spPr>
      </p:cxnSp>
      <p:sp>
        <p:nvSpPr>
          <p:cNvPr id="392" name="Прямоугольник 18"/>
          <p:cNvSpPr/>
          <p:nvPr/>
        </p:nvSpPr>
        <p:spPr>
          <a:xfrm>
            <a:off x="928800" y="1500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ность, задаваемая урав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600120" y="3444120"/>
            <a:ext cx="618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Точка 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нтр окру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ямые              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и симмет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График окружности (2) изобра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.2  и  получается из окружности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внением (1) параллельным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ктор  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5"/>
          <p:cNvSpPr/>
          <p:nvPr/>
        </p:nvSpPr>
        <p:spPr>
          <a:xfrm>
            <a:off x="514440" y="31680"/>
            <a:ext cx="64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6"/>
          <p:cNvGraphicFramePr/>
          <p:nvPr/>
        </p:nvGraphicFramePr>
        <p:xfrm>
          <a:off x="1857240" y="3433680"/>
          <a:ext cx="128268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3433680"/>
                    <a:ext cx="1282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9"/>
          <p:cNvGraphicFramePr/>
          <p:nvPr/>
        </p:nvGraphicFramePr>
        <p:xfrm>
          <a:off x="2413080" y="4148280"/>
          <a:ext cx="1801800" cy="49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3080" y="4148280"/>
                    <a:ext cx="180180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0"/>
          <p:cNvGraphicFramePr/>
          <p:nvPr/>
        </p:nvGraphicFramePr>
        <p:xfrm>
          <a:off x="2357280" y="6000840"/>
          <a:ext cx="654120" cy="55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0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57280" y="6000840"/>
                    <a:ext cx="654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Прямоугольник 34"/>
          <p:cNvSpPr/>
          <p:nvPr/>
        </p:nvSpPr>
        <p:spPr>
          <a:xfrm>
            <a:off x="6978240" y="60008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21"/>
          <p:cNvGraphicFramePr/>
          <p:nvPr/>
        </p:nvGraphicFramePr>
        <p:xfrm>
          <a:off x="8545680" y="2517840"/>
          <a:ext cx="325440" cy="49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3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45680" y="2517840"/>
                    <a:ext cx="325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Прямая соединительная линия 40"/>
          <p:cNvSpPr/>
          <p:nvPr/>
        </p:nvSpPr>
        <p:spPr>
          <a:xfrm>
            <a:off x="7500960" y="3071880"/>
            <a:ext cx="1214280" cy="144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43"/>
          <p:cNvSpPr/>
          <p:nvPr/>
        </p:nvSpPr>
        <p:spPr>
          <a:xfrm>
            <a:off x="8714520" y="3143160"/>
            <a:ext cx="71640" cy="171468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22"/>
          <p:cNvGraphicFramePr/>
          <p:nvPr/>
        </p:nvGraphicFramePr>
        <p:xfrm>
          <a:off x="7143840" y="2286000"/>
          <a:ext cx="298440" cy="355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7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43840" y="2286000"/>
                    <a:ext cx="2984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пределение. Эллип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геометрическое место точек на плоскости, для каждой из которых сумма расстояний до двух данных точек, называемых фокусами, есть величина постоян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лип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геометрическое место точек на плоскости, координаты которых в некоторой прямоугольной системе координат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удовлетворяет уравн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             уравнение (1) является уравнением окружности радиуса          с центром в начале координат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6"/>
          <p:cNvSpPr/>
          <p:nvPr/>
        </p:nvSpPr>
        <p:spPr>
          <a:xfrm>
            <a:off x="142920" y="50004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Объект 2"/>
              <p:cNvSpPr txBox="1"/>
              <p:nvPr/>
            </p:nvSpPr>
            <p:spPr>
              <a:xfrm>
                <a:off x="1522440" y="3959280"/>
                <a:ext cx="2978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Объект 4"/>
              <p:cNvSpPr txBox="1"/>
              <p:nvPr/>
            </p:nvSpPr>
            <p:spPr>
              <a:xfrm>
                <a:off x="1409760" y="5340240"/>
                <a:ext cx="641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Объект 7"/>
              <p:cNvSpPr txBox="1"/>
              <p:nvPr/>
            </p:nvSpPr>
            <p:spPr>
              <a:xfrm>
                <a:off x="1893960" y="5769000"/>
                <a:ext cx="2300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5" name="Picture 2" descr="C:\Users\MANYA\Desktop\фото (3).JPG"/>
          <p:cNvPicPr/>
          <p:nvPr/>
        </p:nvPicPr>
        <p:blipFill>
          <a:blip r:embed="rId1"/>
          <a:stretch/>
        </p:blipFill>
        <p:spPr>
          <a:xfrm>
            <a:off x="5214960" y="3500280"/>
            <a:ext cx="32148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Центр эллипс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чка О(0;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ершины эллипс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и эллип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     -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оси эллип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си симметрии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ы эллипса – точки,                             где                    если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                    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6"/>
          <p:cNvSpPr/>
          <p:nvPr/>
        </p:nvSpPr>
        <p:spPr>
          <a:xfrm>
            <a:off x="142920" y="189072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Объект 8"/>
              <p:cNvSpPr txBox="1"/>
              <p:nvPr/>
            </p:nvSpPr>
            <p:spPr>
              <a:xfrm>
                <a:off x="4792680" y="2313000"/>
                <a:ext cx="34513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Объект 10"/>
              <p:cNvSpPr txBox="1"/>
              <p:nvPr/>
            </p:nvSpPr>
            <p:spPr>
              <a:xfrm>
                <a:off x="1407960" y="2708280"/>
                <a:ext cx="1795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Объект 12"/>
              <p:cNvSpPr txBox="1"/>
              <p:nvPr/>
            </p:nvSpPr>
            <p:spPr>
              <a:xfrm>
                <a:off x="1403280" y="3068640"/>
                <a:ext cx="370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Объект 14"/>
              <p:cNvSpPr txBox="1"/>
              <p:nvPr/>
            </p:nvSpPr>
            <p:spPr>
              <a:xfrm>
                <a:off x="4284720" y="3789360"/>
                <a:ext cx="1468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Объект 16"/>
              <p:cNvSpPr txBox="1"/>
              <p:nvPr/>
            </p:nvSpPr>
            <p:spPr>
              <a:xfrm>
                <a:off x="6300720" y="3789360"/>
                <a:ext cx="1063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Объект 18"/>
              <p:cNvSpPr txBox="1"/>
              <p:nvPr/>
            </p:nvSpPr>
            <p:spPr>
              <a:xfrm>
                <a:off x="8101080" y="3789360"/>
                <a:ext cx="5475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b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Объект 20"/>
              <p:cNvSpPr txBox="1"/>
              <p:nvPr/>
            </p:nvSpPr>
            <p:spPr>
              <a:xfrm>
                <a:off x="971640" y="4149720"/>
                <a:ext cx="14698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Объект 22"/>
              <p:cNvSpPr txBox="1"/>
              <p:nvPr/>
            </p:nvSpPr>
            <p:spPr>
              <a:xfrm>
                <a:off x="3059280" y="4149720"/>
                <a:ext cx="10648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Объект 23"/>
              <p:cNvSpPr txBox="1"/>
              <p:nvPr/>
            </p:nvSpPr>
            <p:spPr>
              <a:xfrm>
                <a:off x="4994280" y="4221000"/>
                <a:ext cx="5684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Picture 84" descr=""/>
          <p:cNvPicPr/>
          <p:nvPr/>
        </p:nvPicPr>
        <p:blipFill>
          <a:blip r:embed="rId1"/>
          <a:stretch/>
        </p:blipFill>
        <p:spPr>
          <a:xfrm>
            <a:off x="2771640" y="4554360"/>
            <a:ext cx="358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93280" y="1628640"/>
            <a:ext cx="777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липс, задаваемый уравн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 свойст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142920" y="196200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Объект 7"/>
              <p:cNvSpPr txBox="1"/>
              <p:nvPr/>
            </p:nvSpPr>
            <p:spPr>
              <a:xfrm>
                <a:off x="5219640" y="1700280"/>
                <a:ext cx="3067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6051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Гипербо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геометрическое место точек на плоскости, для каждой из которых модуль разности расстояний до двух данных точек, называемых фокусами, есть величина постоя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аноническое уравнение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а)    или                           (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2920" y="1962000"/>
            <a:ext cx="39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Объект 7"/>
              <p:cNvSpPr txBox="1"/>
              <p:nvPr/>
            </p:nvSpPr>
            <p:spPr>
              <a:xfrm>
                <a:off x="1763640" y="4548240"/>
                <a:ext cx="1309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Объект 9"/>
              <p:cNvSpPr txBox="1"/>
              <p:nvPr/>
            </p:nvSpPr>
            <p:spPr>
              <a:xfrm>
                <a:off x="5003640" y="4581360"/>
                <a:ext cx="136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6988320" cy="4283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93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 через точку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с заданным угловым коэффициентом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k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при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295280" cy="523800"/>
          </a:xfrm>
          <a:prstGeom prst="rect">
            <a:avLst/>
          </a:prstGeom>
          <a:ln w="0">
            <a:noFill/>
          </a:ln>
        </p:spPr>
      </p:pic>
      <p:sp>
        <p:nvSpPr>
          <p:cNvPr id="124" name="Line 8"/>
          <p:cNvSpPr/>
          <p:nvPr/>
        </p:nvSpPr>
        <p:spPr>
          <a:xfrm>
            <a:off x="2771640" y="3860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 flipH="1">
            <a:off x="3347640" y="2276640"/>
            <a:ext cx="2808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1"/>
          <p:cNvSpPr/>
          <p:nvPr/>
        </p:nvSpPr>
        <p:spPr>
          <a:xfrm>
            <a:off x="4092480" y="3598920"/>
            <a:ext cx="150840" cy="2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212720" y="34290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457200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529272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20"/>
          <p:cNvCxnSpPr>
            <a:stCxn id="132" idx="0"/>
          </p:cNvCxnSpPr>
          <p:nvPr/>
        </p:nvCxnSpPr>
        <p:spPr>
          <a:xfrm>
            <a:off x="5292720" y="285228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Text Box 21"/>
          <p:cNvSpPr/>
          <p:nvPr/>
        </p:nvSpPr>
        <p:spPr>
          <a:xfrm>
            <a:off x="5292720" y="270828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(х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;у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148360" y="38606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284720" y="2637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4" descr=""/>
          <p:cNvPicPr/>
          <p:nvPr/>
        </p:nvPicPr>
        <p:blipFill>
          <a:blip r:embed="rId2"/>
          <a:stretch/>
        </p:blipFill>
        <p:spPr>
          <a:xfrm>
            <a:off x="2627280" y="4581360"/>
            <a:ext cx="4033800" cy="938520"/>
          </a:xfrm>
          <a:prstGeom prst="rect">
            <a:avLst/>
          </a:prstGeom>
          <a:ln w="0">
            <a:noFill/>
          </a:ln>
        </p:spPr>
      </p:pic>
      <p:sp>
        <p:nvSpPr>
          <p:cNvPr id="139" name="Oval 26"/>
          <p:cNvSpPr/>
          <p:nvPr/>
        </p:nvSpPr>
        <p:spPr>
          <a:xfrm>
            <a:off x="5219640" y="2781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761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64278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9786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ерболы, задаваемые уравнениями: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Объект 3"/>
              <p:cNvSpPr txBox="1"/>
              <p:nvPr/>
            </p:nvSpPr>
            <p:spPr>
              <a:xfrm>
                <a:off x="1795320" y="1989000"/>
                <a:ext cx="22161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Объект 5"/>
              <p:cNvSpPr txBox="1"/>
              <p:nvPr/>
            </p:nvSpPr>
            <p:spPr>
              <a:xfrm>
                <a:off x="5219640" y="1989000"/>
                <a:ext cx="2090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Прямоугольник 17"/>
          <p:cNvSpPr/>
          <p:nvPr/>
        </p:nvSpPr>
        <p:spPr>
          <a:xfrm>
            <a:off x="757800" y="2781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рши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3" descr=""/>
          <p:cNvPicPr/>
          <p:nvPr/>
        </p:nvPicPr>
        <p:blipFill>
          <a:blip r:embed="rId2"/>
          <a:stretch/>
        </p:blipFill>
        <p:spPr>
          <a:xfrm>
            <a:off x="2131920" y="2565360"/>
            <a:ext cx="6112080" cy="827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6" descr=""/>
          <p:cNvPicPr/>
          <p:nvPr/>
        </p:nvPicPr>
        <p:blipFill>
          <a:blip r:embed="rId3"/>
          <a:stretch/>
        </p:blipFill>
        <p:spPr>
          <a:xfrm>
            <a:off x="2340000" y="3500280"/>
            <a:ext cx="4726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Объект 10"/>
              <p:cNvSpPr txBox="1"/>
              <p:nvPr/>
            </p:nvSpPr>
            <p:spPr>
              <a:xfrm>
                <a:off x="1071720" y="3214800"/>
                <a:ext cx="960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12"/>
              <p:cNvSpPr txBox="1"/>
              <p:nvPr/>
            </p:nvSpPr>
            <p:spPr>
              <a:xfrm>
                <a:off x="3286080" y="3214800"/>
                <a:ext cx="863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Прямоугольник 19"/>
          <p:cNvSpPr/>
          <p:nvPr/>
        </p:nvSpPr>
        <p:spPr>
          <a:xfrm>
            <a:off x="571680" y="3629160"/>
            <a:ext cx="378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          некоторое число,  называемое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метром  параб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ь абсцисс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вляется осью симметрии параболы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Объект 20"/>
          <p:cNvGraphicFramePr/>
          <p:nvPr/>
        </p:nvGraphicFramePr>
        <p:xfrm>
          <a:off x="1282680" y="3684600"/>
          <a:ext cx="57456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Объект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3684600"/>
                    <a:ext cx="5745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TextBox 10"/>
          <p:cNvSpPr/>
          <p:nvPr/>
        </p:nvSpPr>
        <p:spPr>
          <a:xfrm>
            <a:off x="714240" y="1643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бол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геометрическое место точек на плоскости, равноудаленных от данной точки, называемой фокусом,  и данной прямой,  называемой директрисой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3"/>
          <a:stretch/>
        </p:blipFill>
        <p:spPr>
          <a:xfrm>
            <a:off x="4286160" y="2857680"/>
            <a:ext cx="4714920" cy="22860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3"/>
          <p:cNvSpPr/>
          <p:nvPr/>
        </p:nvSpPr>
        <p:spPr>
          <a:xfrm>
            <a:off x="3506760" y="9036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оническое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3506760" y="9036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оническое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7"/>
          <p:cNvSpPr/>
          <p:nvPr/>
        </p:nvSpPr>
        <p:spPr>
          <a:xfrm>
            <a:off x="1071720" y="277344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ноническое у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8"/>
          <p:cNvSpPr/>
          <p:nvPr/>
        </p:nvSpPr>
        <p:spPr>
          <a:xfrm>
            <a:off x="2431440" y="321480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1143000" y="150120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44"/>
          <p:cNvSpPr/>
          <p:nvPr/>
        </p:nvSpPr>
        <p:spPr>
          <a:xfrm>
            <a:off x="928800" y="2000160"/>
            <a:ext cx="7929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: О(0;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ы параболы:             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риса:                    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ы, задаваемые уравн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                                 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        некоторое число, называемо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араметром парабо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дают св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Object 33"/>
          <p:cNvGraphicFramePr/>
          <p:nvPr/>
        </p:nvGraphicFramePr>
        <p:xfrm>
          <a:off x="3857760" y="2529000"/>
          <a:ext cx="80460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2529000"/>
                    <a:ext cx="8046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7"/>
          <p:cNvGraphicFramePr/>
          <p:nvPr/>
        </p:nvGraphicFramePr>
        <p:xfrm>
          <a:off x="5429160" y="2500200"/>
          <a:ext cx="84132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500200"/>
                    <a:ext cx="8413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39"/>
          <p:cNvGraphicFramePr/>
          <p:nvPr/>
        </p:nvGraphicFramePr>
        <p:xfrm>
          <a:off x="3438360" y="3143160"/>
          <a:ext cx="77652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8360" y="3143160"/>
                    <a:ext cx="7765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41"/>
          <p:cNvGraphicFramePr/>
          <p:nvPr/>
        </p:nvGraphicFramePr>
        <p:xfrm>
          <a:off x="5295960" y="3137040"/>
          <a:ext cx="77616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Object 4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5960" y="3137040"/>
                    <a:ext cx="7761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7"/>
          <p:cNvSpPr/>
          <p:nvPr/>
        </p:nvSpPr>
        <p:spPr>
          <a:xfrm>
            <a:off x="4449600" y="13428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10"/>
          <p:cNvGraphicFramePr/>
          <p:nvPr/>
        </p:nvGraphicFramePr>
        <p:xfrm>
          <a:off x="5715000" y="3786120"/>
          <a:ext cx="2220840" cy="43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4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786120"/>
                    <a:ext cx="22208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Объект 12"/>
          <p:cNvGraphicFramePr/>
          <p:nvPr/>
        </p:nvGraphicFramePr>
        <p:xfrm>
          <a:off x="1643040" y="4373640"/>
          <a:ext cx="244944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6" name="Объект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43040" y="4373640"/>
                    <a:ext cx="24494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65"/>
          <p:cNvGraphicFramePr/>
          <p:nvPr/>
        </p:nvGraphicFramePr>
        <p:xfrm>
          <a:off x="1571760" y="5072040"/>
          <a:ext cx="347400" cy="37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8" name="Object 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1760" y="5072040"/>
                    <a:ext cx="347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3"/>
          <p:cNvGraphicFramePr/>
          <p:nvPr/>
        </p:nvGraphicFramePr>
        <p:xfrm>
          <a:off x="2963880" y="1662120"/>
          <a:ext cx="1179360" cy="4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3880" y="1662120"/>
                    <a:ext cx="1179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4464000" y="563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11"/>
          <p:cNvSpPr/>
          <p:nvPr/>
        </p:nvSpPr>
        <p:spPr>
          <a:xfrm>
            <a:off x="642960" y="1643040"/>
            <a:ext cx="828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шин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усы параболы:                           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рис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 симметрии: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                     .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8"/>
          <p:cNvGraphicFramePr/>
          <p:nvPr/>
        </p:nvGraphicFramePr>
        <p:xfrm>
          <a:off x="3500280" y="2071800"/>
          <a:ext cx="13622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2071800"/>
                    <a:ext cx="1362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Object 10"/>
          <p:cNvGraphicFramePr/>
          <p:nvPr/>
        </p:nvGraphicFramePr>
        <p:xfrm>
          <a:off x="5756400" y="2071800"/>
          <a:ext cx="131580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6400" y="2071800"/>
                    <a:ext cx="13158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12"/>
          <p:cNvGraphicFramePr/>
          <p:nvPr/>
        </p:nvGraphicFramePr>
        <p:xfrm>
          <a:off x="3571920" y="2714760"/>
          <a:ext cx="102384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71920" y="2714760"/>
                    <a:ext cx="10238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14"/>
          <p:cNvGraphicFramePr/>
          <p:nvPr/>
        </p:nvGraphicFramePr>
        <p:xfrm>
          <a:off x="5857920" y="2786040"/>
          <a:ext cx="895320" cy="4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7920" y="278604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16"/>
          <p:cNvGraphicFramePr/>
          <p:nvPr/>
        </p:nvGraphicFramePr>
        <p:xfrm>
          <a:off x="3143160" y="3214800"/>
          <a:ext cx="94140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0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43160" y="3214800"/>
                    <a:ext cx="941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18"/>
          <p:cNvGraphicFramePr/>
          <p:nvPr/>
        </p:nvGraphicFramePr>
        <p:xfrm>
          <a:off x="5111640" y="3211560"/>
          <a:ext cx="85896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2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11640" y="3211560"/>
                    <a:ext cx="858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4464000" y="563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19"/>
          <p:cNvSpPr/>
          <p:nvPr/>
        </p:nvSpPr>
        <p:spPr>
          <a:xfrm>
            <a:off x="941760" y="16430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авнение второй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12"/>
          <p:cNvGraphicFramePr/>
          <p:nvPr/>
        </p:nvGraphicFramePr>
        <p:xfrm>
          <a:off x="4284720" y="1589040"/>
          <a:ext cx="407340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89040"/>
                    <a:ext cx="40734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Прямоугольник 25"/>
          <p:cNvSpPr/>
          <p:nvPr/>
        </p:nvSpPr>
        <p:spPr>
          <a:xfrm>
            <a:off x="857160" y="2219400"/>
            <a:ext cx="7929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числа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е равны одновременно нулю, преобразуется к каноническому виду методом выделения полных квадратов и последующим параллельным перено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6"/>
          <p:cNvSpPr/>
          <p:nvPr/>
        </p:nvSpPr>
        <p:spPr>
          <a:xfrm>
            <a:off x="646560" y="3646800"/>
            <a:ext cx="567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кривой   определяется числами   А  и  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714240" y="4091760"/>
            <a:ext cx="657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, то              – окруж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   и                  то             – эллип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   , то        – гипербо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дно из чисел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вно нулю, то –  пара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Object 27"/>
          <p:cNvGraphicFramePr/>
          <p:nvPr/>
        </p:nvGraphicFramePr>
        <p:xfrm>
          <a:off x="2071800" y="4786200"/>
          <a:ext cx="868320" cy="2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4786200"/>
                    <a:ext cx="8683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29"/>
          <p:cNvGraphicFramePr/>
          <p:nvPr/>
        </p:nvGraphicFramePr>
        <p:xfrm>
          <a:off x="2071800" y="4429080"/>
          <a:ext cx="617400" cy="27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5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1800" y="4429080"/>
                    <a:ext cx="61740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30"/>
          <p:cNvGraphicFramePr/>
          <p:nvPr/>
        </p:nvGraphicFramePr>
        <p:xfrm>
          <a:off x="3357720" y="4429080"/>
          <a:ext cx="850680" cy="27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7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429080"/>
                    <a:ext cx="8506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32"/>
          <p:cNvGraphicFramePr/>
          <p:nvPr/>
        </p:nvGraphicFramePr>
        <p:xfrm>
          <a:off x="2143080" y="4154400"/>
          <a:ext cx="617760" cy="27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9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3080" y="4154400"/>
                    <a:ext cx="6177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33"/>
          <p:cNvGraphicFramePr/>
          <p:nvPr/>
        </p:nvGraphicFramePr>
        <p:xfrm>
          <a:off x="3500280" y="4071960"/>
          <a:ext cx="387360" cy="36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1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407196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35"/>
          <p:cNvGraphicFramePr/>
          <p:nvPr/>
        </p:nvGraphicFramePr>
        <p:xfrm>
          <a:off x="5000760" y="4429080"/>
          <a:ext cx="387360" cy="36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3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0760" y="442908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36"/>
          <p:cNvGraphicFramePr/>
          <p:nvPr/>
        </p:nvGraphicFramePr>
        <p:xfrm>
          <a:off x="3571920" y="4714920"/>
          <a:ext cx="387360" cy="3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5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1920" y="471492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37"/>
          <p:cNvGraphicFramePr/>
          <p:nvPr/>
        </p:nvGraphicFramePr>
        <p:xfrm>
          <a:off x="6786720" y="5000760"/>
          <a:ext cx="387360" cy="365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77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6720" y="500076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08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 через точку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, но не имеющей углового коэффициента, пр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Х=Х</a:t>
            </a:r>
            <a:r>
              <a:rPr b="0" lang="ru-RU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136692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Line 5"/>
          <p:cNvSpPr/>
          <p:nvPr/>
        </p:nvSpPr>
        <p:spPr>
          <a:xfrm>
            <a:off x="399564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292720" y="1989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57200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529272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16"/>
          <p:cNvCxnSpPr>
            <a:stCxn id="149" idx="0"/>
          </p:cNvCxnSpPr>
          <p:nvPr/>
        </p:nvCxnSpPr>
        <p:spPr>
          <a:xfrm>
            <a:off x="5292720" y="285228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Text Box 17"/>
          <p:cNvSpPr/>
          <p:nvPr/>
        </p:nvSpPr>
        <p:spPr>
          <a:xfrm>
            <a:off x="5292720" y="270828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364000" y="3933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4284720" y="2637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5219640" y="2781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проходящей через две заданные точки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5003640" y="32846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5508720" y="1699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H="1">
            <a:off x="5076720" y="2205000"/>
            <a:ext cx="1944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236000" y="3213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219640" y="155736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437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5219640" y="206064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5508720" y="2276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694836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AutoShape 15"/>
          <p:cNvCxnSpPr>
            <a:stCxn id="164" idx="0"/>
          </p:cNvCxnSpPr>
          <p:nvPr/>
        </p:nvCxnSpPr>
        <p:spPr>
          <a:xfrm>
            <a:off x="6948000" y="2276640"/>
            <a:ext cx="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" name="Text Box 16"/>
          <p:cNvSpPr/>
          <p:nvPr/>
        </p:nvSpPr>
        <p:spPr>
          <a:xfrm>
            <a:off x="5940360" y="285264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796000" y="3213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5219640" y="27813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550872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594036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1"/>
          <p:cNvSpPr/>
          <p:nvPr/>
        </p:nvSpPr>
        <p:spPr>
          <a:xfrm>
            <a:off x="5867280" y="2924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2"/>
          <p:cNvSpPr/>
          <p:nvPr/>
        </p:nvSpPr>
        <p:spPr>
          <a:xfrm>
            <a:off x="6877080" y="227664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6948360" y="2205000"/>
            <a:ext cx="88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6732720" y="3213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1309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9217080" cy="617400"/>
          </a:xfrm>
          <a:prstGeom prst="rect">
            <a:avLst/>
          </a:prstGeom>
          <a:ln w="0">
            <a:noFill/>
          </a:ln>
        </p:spPr>
      </p:pic>
      <p:sp>
        <p:nvSpPr>
          <p:cNvPr id="178" name="Line 32"/>
          <p:cNvSpPr/>
          <p:nvPr/>
        </p:nvSpPr>
        <p:spPr>
          <a:xfrm>
            <a:off x="684360" y="3860640"/>
            <a:ext cx="806436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9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9791640" cy="647640"/>
          </a:xfrm>
          <a:prstGeom prst="rect">
            <a:avLst/>
          </a:prstGeom>
          <a:ln w="0">
            <a:noFill/>
          </a:ln>
        </p:spPr>
      </p:pic>
      <p:sp>
        <p:nvSpPr>
          <p:cNvPr id="180" name="Line 57"/>
          <p:cNvSpPr/>
          <p:nvPr/>
        </p:nvSpPr>
        <p:spPr>
          <a:xfrm flipV="1">
            <a:off x="6300720" y="4076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8"/>
          <p:cNvSpPr/>
          <p:nvPr/>
        </p:nvSpPr>
        <p:spPr>
          <a:xfrm>
            <a:off x="6012000" y="59500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9"/>
          <p:cNvSpPr/>
          <p:nvPr/>
        </p:nvSpPr>
        <p:spPr>
          <a:xfrm>
            <a:off x="630072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0"/>
          <p:cNvSpPr/>
          <p:nvPr/>
        </p:nvSpPr>
        <p:spPr>
          <a:xfrm>
            <a:off x="630072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1"/>
          <p:cNvSpPr/>
          <p:nvPr/>
        </p:nvSpPr>
        <p:spPr>
          <a:xfrm>
            <a:off x="7740720" y="4149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2"/>
          <p:cNvSpPr/>
          <p:nvPr/>
        </p:nvSpPr>
        <p:spPr>
          <a:xfrm>
            <a:off x="5940360" y="436572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3"/>
          <p:cNvSpPr/>
          <p:nvPr/>
        </p:nvSpPr>
        <p:spPr>
          <a:xfrm>
            <a:off x="5940360" y="5157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4"/>
          <p:cNvSpPr/>
          <p:nvPr/>
        </p:nvSpPr>
        <p:spPr>
          <a:xfrm>
            <a:off x="7667640" y="4437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5"/>
          <p:cNvSpPr/>
          <p:nvPr/>
        </p:nvSpPr>
        <p:spPr>
          <a:xfrm>
            <a:off x="7667640" y="522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6"/>
          <p:cNvSpPr/>
          <p:nvPr/>
        </p:nvSpPr>
        <p:spPr>
          <a:xfrm>
            <a:off x="7740720" y="436572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7740720" y="515772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8"/>
          <p:cNvSpPr/>
          <p:nvPr/>
        </p:nvSpPr>
        <p:spPr>
          <a:xfrm>
            <a:off x="5940360" y="400536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0"/>
          <p:cNvSpPr/>
          <p:nvPr/>
        </p:nvSpPr>
        <p:spPr>
          <a:xfrm>
            <a:off x="8172360" y="587700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1"/>
          <p:cNvSpPr/>
          <p:nvPr/>
        </p:nvSpPr>
        <p:spPr>
          <a:xfrm>
            <a:off x="630252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6"/>
          <p:cNvSpPr/>
          <p:nvPr/>
        </p:nvSpPr>
        <p:spPr>
          <a:xfrm>
            <a:off x="7740720" y="59500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проходящей через две заданные точки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Line 4"/>
          <p:cNvSpPr/>
          <p:nvPr/>
        </p:nvSpPr>
        <p:spPr>
          <a:xfrm flipV="1">
            <a:off x="6300720" y="2349360"/>
            <a:ext cx="0" cy="20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5867280" y="40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579600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667640" y="393372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588000" y="3933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6732720" y="3357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7812000" y="3357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5867280" y="227664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229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781200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680400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0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10007280" cy="657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1"/>
          <p:cNvSpPr/>
          <p:nvPr/>
        </p:nvSpPr>
        <p:spPr>
          <a:xfrm>
            <a:off x="7740720" y="3068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6732720" y="3068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6012000" y="30686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Общее уравнение прямой на плоскости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979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x+By+C=0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где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А,В,С –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 уравнение прямой принимает вид: у=у</a:t>
            </a:r>
            <a:r>
              <a:rPr b="0" lang="ru-RU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, прямая параллельна оси  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Ох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 угловой коэффициент равен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 уравнение прямой принимает вид: х=х</a:t>
            </a:r>
            <a:r>
              <a:rPr b="0" lang="ru-RU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прямая параллельна оси 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Oy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углового коэффициента не имеет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, то уравнение прямой принимает в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=kx+b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где: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=A /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 flipH="1">
            <a:off x="2700000" y="2708280"/>
            <a:ext cx="142920" cy="2160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6659640" y="1628640"/>
            <a:ext cx="1942920" cy="516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195280" y="3716280"/>
            <a:ext cx="144360" cy="2160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2195280" y="4869000"/>
            <a:ext cx="142920" cy="2156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2700000" y="4869000"/>
            <a:ext cx="142920" cy="2156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1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гловой коэффициент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через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две точк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4032000" cy="1881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0894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Острый угол </a:t>
            </a:r>
            <a:r>
              <a:rPr b="1" i="1" lang="el-GR" sz="3200" spc="-1" strike="noStrike">
                <a:solidFill>
                  <a:srgbClr val="330033"/>
                </a:solidFill>
                <a:latin typeface="Times New Roman"/>
              </a:rPr>
              <a:t>φ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между прямыми, 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заданными  уравнениям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ся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6083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08:36:26Z</dcterms:created>
  <dc:creator>к.502</dc:creator>
  <dc:description/>
  <dc:language>en-US</dc:language>
  <cp:lastModifiedBy>MANYA</cp:lastModifiedBy>
  <dcterms:modified xsi:type="dcterms:W3CDTF">2014-09-18T19:46:27Z</dcterms:modified>
  <cp:revision>65</cp:revision>
  <dc:subject/>
  <dc:title>Уравнение прямой на плоскости</dc:title>
</cp:coreProperties>
</file>